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83520" rIns="83520" tIns="41760" bIns="41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83520" rIns="83520" tIns="41760" bIns="417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894960" y="746280"/>
            <a:ext cx="4970520" cy="37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83520" rIns="83520" tIns="41760" bIns="417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83520" rIns="83520" tIns="41760" bIns="41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83520" rIns="83520" tIns="41760" bIns="417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26A23-DAEF-4F93-9A94-75BE69DF147D}" type="slidenum">
              <a:rPr b="0" lang="zh-CN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灯片编号占位符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520" rIns="83520" tIns="41760" bIns="417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B3B3D-DDAA-4614-8519-55B41CED3274}" type="slidenum">
              <a:rPr b="0" lang="zh-CN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490A-CA7E-467E-9572-09EF89E9C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822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9640" y="4404600"/>
            <a:ext cx="822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05B7-B21D-4CF3-8DC6-A87E23564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6680" y="263664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640" y="440460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6680" y="440460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D8E0-3F4E-4E01-9367-ACCCF4DDE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264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080" y="2636640"/>
            <a:ext cx="264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4520" y="2636640"/>
            <a:ext cx="264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9640" y="4404600"/>
            <a:ext cx="264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080" y="4404600"/>
            <a:ext cx="264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4520" y="4404600"/>
            <a:ext cx="264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7357-50DC-4FA6-99AD-13732E4C2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964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1588-7E93-4F3C-9576-8E4D48B4B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D2D4-9393-4D6D-A94B-F0461791D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40158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6680" y="2636640"/>
            <a:ext cx="40158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3151-5F6A-4CE9-BC81-624E40B97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FCE0-3685-4D0F-A6DD-8B38BFCE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9640" y="1339560"/>
            <a:ext cx="82296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3488-9A42-4489-8281-148446D6C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6680" y="2636640"/>
            <a:ext cx="40158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640" y="440460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6878-9AAB-4F80-93C0-2C2AF72F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40158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6680" y="263664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6680" y="440460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C96B-7C49-4357-B555-299BA23A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680" y="263664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9640" y="4404600"/>
            <a:ext cx="822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269E-4567-42B0-84FB-44F1B4F6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6"/>
          <p:cNvPicPr/>
          <p:nvPr/>
        </p:nvPicPr>
        <p:blipFill>
          <a:blip r:embed="rId2"/>
          <a:srcRect l="0" t="0" r="0" b="-295"/>
          <a:stretch/>
        </p:blipFill>
        <p:spPr>
          <a:xfrm>
            <a:off x="0" y="-68400"/>
            <a:ext cx="9144000" cy="6716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964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6C0D5-726B-4EBC-8589-59FCBDD189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9" descr="F:\美工素材\校徽标志\校徽组成图.png"/>
          <p:cNvPicPr/>
          <p:nvPr/>
        </p:nvPicPr>
        <p:blipFill>
          <a:blip r:embed="rId1"/>
          <a:stretch/>
        </p:blipFill>
        <p:spPr>
          <a:xfrm>
            <a:off x="0" y="4529160"/>
            <a:ext cx="9144000" cy="1542960"/>
          </a:xfrm>
          <a:prstGeom prst="rect">
            <a:avLst/>
          </a:prstGeom>
          <a:ln w="0">
            <a:noFill/>
          </a:ln>
        </p:spPr>
      </p:pic>
      <p:sp>
        <p:nvSpPr>
          <p:cNvPr id="50" name="矩形 6"/>
          <p:cNvSpPr/>
          <p:nvPr/>
        </p:nvSpPr>
        <p:spPr>
          <a:xfrm>
            <a:off x="1332000" y="2782800"/>
            <a:ext cx="7532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课程名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参赛教师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学院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矩形 5" descr=""/>
          <p:cNvPicPr/>
          <p:nvPr/>
        </p:nvPicPr>
        <p:blipFill>
          <a:blip r:embed="rId2"/>
          <a:stretch/>
        </p:blipFill>
        <p:spPr>
          <a:xfrm>
            <a:off x="0" y="981000"/>
            <a:ext cx="9144000" cy="1895400"/>
          </a:xfrm>
          <a:prstGeom prst="rect">
            <a:avLst/>
          </a:prstGeom>
          <a:ln w="0">
            <a:noFill/>
          </a:ln>
        </p:spPr>
      </p:pic>
      <p:sp>
        <p:nvSpPr>
          <p:cNvPr id="52" name="矩形 6"/>
          <p:cNvSpPr/>
          <p:nvPr/>
        </p:nvSpPr>
        <p:spPr>
          <a:xfrm>
            <a:off x="9360" y="5732640"/>
            <a:ext cx="9144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  <a:ea typeface="微软雅黑"/>
              </a:rPr>
              <a:t>2015</a:t>
            </a:r>
            <a:r>
              <a:rPr b="1" lang="zh-CN" sz="2800" spc="-1" strike="noStrike">
                <a:solidFill>
                  <a:srgbClr val="002060"/>
                </a:solidFill>
                <a:latin typeface="Calibri"/>
                <a:ea typeface="微软雅黑"/>
              </a:rPr>
              <a:t>年    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7T08:58:37Z</dcterms:created>
  <dc:creator>sewjtu-gao</dc:creator>
  <dc:description/>
  <dc:language>en-US</dc:language>
  <cp:lastModifiedBy>admin</cp:lastModifiedBy>
  <cp:lastPrinted>1899-12-30T00:00:00Z</cp:lastPrinted>
  <dcterms:modified xsi:type="dcterms:W3CDTF">2015-06-09T06:16:00Z</dcterms:modified>
  <cp:revision>47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